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287-2AF1-43F5-BE8B-2EB180358F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22B-9524-4955-90E7-D5F2960FA0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02A-8759-4ED3-A2C7-638E8D5A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152-E408-4E39-B293-19F9587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4BA-E0DF-4486-8321-A654945F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0C0-9AD1-4BA6-A918-1121BAD8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0F0-8701-4AF8-9D16-4515A69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7AC-670A-429A-B8E9-8121E62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981-F21F-4465-9F23-179913ED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DDD-3E69-4C3B-A595-91A4F78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632-A95E-4E89-966C-E1AB9DA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3EC-AB8D-4FDB-967D-0C01D51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D82-63C4-4414-8BEE-E089DD7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FFE-F5EA-42E7-A3D1-ED8A1A1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14A3-5CDB-49F2-9C18-53629C7F9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éo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ith over 11 million people, the Île-de-France region represents 20% of France’s popul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-1108" t="25780" r="45000" b="10221"/>
          <a:stretch/>
        </p:blipFill>
        <p:spPr>
          <a:xfrm>
            <a:off x="0" y="380880"/>
            <a:ext cx="855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Île de la c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 island in the Sein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«craddle of Paris » , where the Parisii tribe built the first structures in what is now Pa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encrypted-tbn1.google.com/images?q=tbn:ANd9GcTySj6iXnUYMjHUIjMgFG3-hDs-E5lzaB0Zh2hyATamcFL0SUPB"/>
          <p:cNvPicPr/>
          <p:nvPr/>
        </p:nvPicPr>
        <p:blipFill>
          <a:blip r:embed="rId1"/>
          <a:stretch/>
        </p:blipFill>
        <p:spPr>
          <a:xfrm>
            <a:off x="2590920" y="3657600"/>
            <a:ext cx="358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Tour 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ustave Eiffel from Dij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88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uilt for the World’s 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lebrates the Centennial of the French Rev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as the tallest building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cré Cœur vs. La Tour Eiff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sphotos-a.xx.fbcdn.net/hphotos-snc6/264571_10100140242335108_3528693_n.jpg"/>
          <p:cNvPicPr/>
          <p:nvPr/>
        </p:nvPicPr>
        <p:blipFill>
          <a:blip r:embed="rId1"/>
          <a:stretch/>
        </p:blipFill>
        <p:spPr>
          <a:xfrm>
            <a:off x="5867280" y="1295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photos-a.xx.fbcdn.net/hphotos-prn1/37312_798353895308_5357987_n.jpg"/>
          <p:cNvPicPr/>
          <p:nvPr/>
        </p:nvPicPr>
        <p:blipFill>
          <a:blip r:embed="rId2"/>
          <a:stretch/>
        </p:blipFill>
        <p:spPr>
          <a:xfrm>
            <a:off x="7010280" y="4038480"/>
            <a:ext cx="2000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546" t="42090" r="60525" b="10767"/>
          <a:stretch/>
        </p:blipFill>
        <p:spPr>
          <a:xfrm>
            <a:off x="1447920" y="1523880"/>
            <a:ext cx="6324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546" t="42090" r="61577" b="10767"/>
          <a:stretch/>
        </p:blipFill>
        <p:spPr>
          <a:xfrm>
            <a:off x="457200" y="1523880"/>
            <a:ext cx="5257800" cy="408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s://encrypted-tbn0.google.com/images?q=tbn:ANd9GcTwX-2WuQ8DUUSkNcXlFIBZFVlBmXomrip3b6ZalP2L7ufMdqRU"/>
          <p:cNvPicPr/>
          <p:nvPr/>
        </p:nvPicPr>
        <p:blipFill>
          <a:blip r:embed="rId2"/>
          <a:stretch/>
        </p:blipFill>
        <p:spPr>
          <a:xfrm>
            <a:off x="6248520" y="3048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543" t="62298" r="61577" b="12451"/>
          <a:stretch/>
        </p:blipFill>
        <p:spPr>
          <a:xfrm>
            <a:off x="762120" y="1676520"/>
            <a:ext cx="7132680" cy="2971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85800" y="5029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thing that’s supposed to be on the inside of a building is visible on out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rcRect l="0" t="37043" r="62627" b="15819"/>
          <a:stretch/>
        </p:blipFill>
        <p:spPr>
          <a:xfrm>
            <a:off x="1724040" y="254160"/>
            <a:ext cx="6734160" cy="530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ttp://sphotos-a.xx.fbcdn.net/hphotos-snc6/263892_10100140249351048_4721541_n.jpg"/>
          <p:cNvPicPr/>
          <p:nvPr/>
        </p:nvPicPr>
        <p:blipFill>
          <a:blip r:embed="rId2"/>
          <a:stretch/>
        </p:blipFill>
        <p:spPr>
          <a:xfrm>
            <a:off x="0" y="521964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5:09:43Z</dcterms:created>
  <dc:creator>Robbie</dc:creator>
  <dc:description/>
  <dc:language>en-US</dc:language>
  <cp:lastModifiedBy>Robbie</cp:lastModifiedBy>
  <dcterms:modified xsi:type="dcterms:W3CDTF">2012-08-11T15:12:52Z</dcterms:modified>
  <cp:revision>2</cp:revision>
  <dc:subject/>
  <dc:title>Géoculture</dc:title>
</cp:coreProperties>
</file>